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892A-43EA-4780-A426-374059799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9E80-CBE1-4702-A6D3-4D0AFD1EC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2E40-1EA9-4CBB-B390-44419ED70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49BD-68F2-4D32-986B-467285930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9497-86C1-4D03-ABFE-6369AB4AB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9CE72-DE89-4479-B493-EB3796597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BA5BD-2722-4B60-9DF2-CFF8726D5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CA09-1439-4178-9878-1D841DBB1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C5787-91A8-417E-95B9-B88A27F44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CD15-99EA-467F-8545-D53F1D2A2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5526-7300-43CC-AA29-9E7864DF9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D314-B613-4FB2-AF9D-3C7C74558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6D2EB-96E0-4391-B2A7-85DD63BD3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enguaje periodíst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ier Benítez Láine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itulares prototíp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ujeto + animado + ac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Gallardón propone una alianza Madrid-Barcelona. (LP- 21-2-200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s socios del gobierno atacan la ley de partidos. (EM- 21-2-07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PP ordena a su militancia que se movilice aunque prefiere una campaña de perfil bajo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(EP- 21-2-07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9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Titulares tipo "Algo es causa de algo"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ujeto - animado y + ac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Una explosión en una mina de Colombia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ausa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25 muertos (EP- 5, Febrero, 200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s inundaciones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rrasan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 Yakarta (EP- 5, Febrero, 2007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 Guerra de Irak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ivide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a los candidatos republicanos a los presidenciales de 2008. (EM- 29, Enero, 2007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" dur="20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Titulares del tipo "Alguien experimenta algo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ujeto + animado y – ac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ultados con 180€ tres jovenes por poner los pies en un banco. (EP- 26, Enero, 200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Vicente cae en su mejor momento. (EM- 6, Febrero, 2007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Detenido en Francia un miembro del aparato logístico de ETA. (LP- 14, Febrero, 200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9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18440" cy="18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Arial"/>
              </a:rPr>
              <a:t>Titulares del tipo "Algo experimenta un cambio, un proceso..." o "Algo esta en tal estado..."</a:t>
            </a: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637000"/>
            <a:ext cx="8229600" cy="34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ujeto - animado, - ac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número de oficinas crecerá un 80% en Valencia en 4 años (LP- 16, Febrero, 200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asignatura de ciudadanía recibe nuevas críticas (LP- 21, Febrero, 200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pintada de la Lonja se limpia con piqueta (LV- 24, Enero, 200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800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8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8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8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Arial"/>
              </a:rPr>
              <a:t>Titulares con la forma de sintagma nomi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agrimas i poesía en Calp (Le- 12-2-200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is muertos en la cueva de Tenerife (Le- 12-2-2007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mergencia en la isla de los Lagartos (EP- 5-2-200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str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str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Titulares con subordinad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gobierno cree que Batasuna prepara el terreno para intentar acudir a las municipales. (EP- 27, Febrero, 200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Mata ve increíble que nadie del PP dimita tras años de escándalos. (EP- 27, Febrero, 2007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Israel acepta que un equipo de arqueólogos turcos vigile las obras de la Explanada de las Mezquitas. (Pais, 16 - 2 - 200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770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9" dur="77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1" dur="77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3" dur="77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Titulares con verbo en pas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tenidos en Italia otros cuatro miembros de las Brigadas Roj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na mujer y un bebe heridos al caer un andamio por el viento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tenido un joven de 18 años por maltratar a su mad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8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8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8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5" dur="500"/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os verbos de a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os verbos de acción mas frecuentes en los titulares son los "verbos de decir" com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pon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"Gallardón propone una alianza Madrid-Barcelona."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chaz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"El congreso rechaza ilegalizar al PCTV.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2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aca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"Los socios del gobierno atacan la ley de partidos.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dmiti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enuncia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critica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edi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prohibi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deci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reclama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lerta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acusa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exigir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29T10:28:53Z</dcterms:created>
  <dc:creator>Javier</dc:creator>
  <dc:description/>
  <dc:language>en-US</dc:language>
  <cp:lastModifiedBy>Javier</cp:lastModifiedBy>
  <dcterms:modified xsi:type="dcterms:W3CDTF">2008-01-29T10:51:13Z</dcterms:modified>
  <cp:revision>2</cp:revision>
  <dc:subject/>
  <dc:title>Lenguaje periodístico</dc:title>
</cp:coreProperties>
</file>